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B7C1-53C0-4D0A-B3AB-12BBD615F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AA05-A51F-46C9-94A8-C952B22BBA78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1BFB-96ED-40BD-8D18-FFC0DAE9B1E9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3234-B0E9-4BA7-9BFF-E4E932AB15FE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CB65-9092-4A7E-85FC-944723C3AD3E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AC6E-0B9C-44EE-BB5A-6872C9AF67D3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E471-26C9-43B3-ACC3-2AF946B0E180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35E7-9D29-4099-AE59-50196AC66F2D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98E8-8D76-4F21-95F3-3C1B4AF26002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0256-7F5D-426F-8D9A-B5A875DDB740}" type="slidenum">
              <a:rPr b="0" lang="en-US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D34-215B-4FF6-BEED-6E3D4E77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4088-7028-4DC3-AD6C-B177DD1A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EAF-D88D-4F7A-ABD9-6D699F0C7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CF2-CC7B-4507-90B3-61C9FD63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016F-A5EC-42B5-A93A-76B27FB0C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27DE-DF43-4E32-AC82-212B398C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387-5E35-4232-8BEF-917B1FA1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4E1EC-6D45-4965-8D4B-742D5F3F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9BB7-92EE-4D4E-A6DB-995FC4ED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B77-B53C-46AC-89BE-1899F9DB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A04A-12F3-4214-A738-9C04F1BB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588-A1BF-4677-9BFA-7E858322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595B-2FAA-4A6A-81E8-A1CD8FCD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1391-AEA4-4854-912D-9DD37D56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2903-ED74-4C8B-905C-A73DF3A1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0617-190A-47B8-A24B-F0B066D0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ED5B-15C0-4716-A9A7-CF90EC03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7296-8C86-4CE6-BB00-9A4352AE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049-C905-44F2-93A7-12350479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78FE-8B62-4EE3-A7CE-5EC83D52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927-87F5-4028-9875-9340847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765D-5684-4544-A866-C4AB99A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444-49C0-4203-8B42-38764805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6D3-0DB3-4D94-A9A1-3FBA6B1B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C0F8-5B70-4BEA-857F-C35A62FDD4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8EC8-65DF-482A-8F1C-D74262497599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ome.columbus.rr.com/allen/image_018.gif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www.swre.com/ctfilter.GIF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Chapter 25</a:t>
            </a:r>
            <a:br>
              <a:rPr sz="4400"/>
            </a:b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Indoor Air Pollution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acteria and molds and mildews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Asbesto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rmaldehyd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ad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5" descr="Radon1"/>
          <p:cNvPicPr/>
          <p:nvPr/>
        </p:nvPicPr>
        <p:blipFill>
          <a:blip r:embed="rId1"/>
          <a:stretch/>
        </p:blipFill>
        <p:spPr>
          <a:xfrm>
            <a:off x="2133720" y="1523880"/>
            <a:ext cx="5486400" cy="46483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533520" y="2362320"/>
            <a:ext cx="152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Longer exposure time leads to greater cancer risk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5" descr="radon risk bar chart"/>
          <p:cNvPicPr/>
          <p:nvPr/>
        </p:nvPicPr>
        <p:blipFill>
          <a:blip r:embed="rId1"/>
          <a:stretch/>
        </p:blipFill>
        <p:spPr>
          <a:xfrm>
            <a:off x="228600" y="1066680"/>
            <a:ext cx="7315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9" name="Picture 5" descr="image_0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47920"/>
            <a:ext cx="6248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Why indoor pollutants so concentrated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ontaminated building materia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Pollutants get trapp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ir and heating units not maintaine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and cannot filter everythin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2" name="Picture 5" descr="ctfilt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14800" y="13716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filters"/>
          <p:cNvPicPr/>
          <p:nvPr/>
        </p:nvPicPr>
        <p:blipFill>
          <a:blip r:embed="rId6"/>
          <a:stretch/>
        </p:blipFill>
        <p:spPr>
          <a:xfrm>
            <a:off x="4191120" y="434340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nter through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acks in walls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rough windows and doo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imney effec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ind and pressure differentials in and outside build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Who’s affected mos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you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e o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Immunosuppresse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ronic respiratory disease suffer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ick building syndrom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0" name="Picture 5" descr="warum-krank"/>
          <p:cNvPicPr/>
          <p:nvPr/>
        </p:nvPicPr>
        <p:blipFill>
          <a:blip r:embed="rId1"/>
          <a:stretch/>
        </p:blipFill>
        <p:spPr>
          <a:xfrm>
            <a:off x="3276720" y="1981080"/>
            <a:ext cx="4343400" cy="39625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380880" y="2514600"/>
            <a:ext cx="27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1311"/>
                </a:solidFill>
                <a:latin typeface="Arial"/>
              </a:rPr>
              <a:t>Caused by unhealthy indoor env.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rolling the problem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Ventilat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Remove sourc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Fix heaters and other faulty devic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Clean air filter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ducat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ducat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Educate!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5" descr="no-smoking"/>
          <p:cNvPicPr/>
          <p:nvPr/>
        </p:nvPicPr>
        <p:blipFill>
          <a:blip r:embed="rId8"/>
          <a:stretch/>
        </p:blipFill>
        <p:spPr>
          <a:xfrm>
            <a:off x="4267080" y="1981080"/>
            <a:ext cx="3276720" cy="3810240"/>
          </a:xfrm>
          <a:prstGeom prst="rect">
            <a:avLst/>
          </a:prstGeom>
          <a:ln w="0">
            <a:noFill/>
          </a:ln>
        </p:spPr>
      </p:pic>
      <p:sp>
        <p:nvSpPr>
          <p:cNvPr id="225" name="Line 7"/>
          <p:cNvSpPr/>
          <p:nvPr/>
        </p:nvSpPr>
        <p:spPr>
          <a:xfrm>
            <a:off x="3352680" y="2362320"/>
            <a:ext cx="1143000" cy="533160"/>
          </a:xfrm>
          <a:prstGeom prst="line">
            <a:avLst/>
          </a:prstGeom>
          <a:ln w="9360">
            <a:solidFill>
              <a:srgbClr val="ecf5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22:47:30Z</dcterms:created>
  <dc:creator>tosborne</dc:creator>
  <dc:description/>
  <dc:language>en-US</dc:language>
  <cp:lastModifiedBy>Teri Osborne</cp:lastModifiedBy>
  <dcterms:modified xsi:type="dcterms:W3CDTF">2011-03-21T00:44:26Z</dcterms:modified>
  <cp:revision>10</cp:revision>
  <dc:subject/>
  <dc:title>Indoor Air Pollution</dc:title>
</cp:coreProperties>
</file>